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781-B1EB-49DB-A48D-3C18107C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FEE-E4FF-40A1-88AE-D007E862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1A1-FF04-49E3-8652-02CFB70E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DE4-6797-4B80-968A-884BDB57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5C0-F885-42B1-88C9-860FADDA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4F5-D2F5-43CA-AA35-94E7EC56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63F-8DCA-41A6-AFEF-5EFB41E2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31A-5CC6-4EF5-985F-F8B9ED95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AD4-F5C9-481D-8F4E-C8CD422F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E96-D6F3-4A1A-B0F9-A3ADF83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40C-DD60-43B3-B87F-5DBB136E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45C-32B5-46F0-B244-C2D2D0E4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D577-D65D-45B0-A093-E9E85C6B9CD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Processes Of Coastal Eros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t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ck on ro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carried by the waves crash against each other and are broken up into smaller parti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rrasion (Attri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Rock on cliff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carried by the waves crash against the cliffs, eroding the clif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rro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Rusting / dissolving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t in the seawater slowly dissolves the clif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terial produced is carried away by the process of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ydraulic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Pressuring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ter traps air in cracks and caves in the r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ir is compressed by the incoming waves placing great pressure on the rocks, causing them to crack eventu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ave Pou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Smashing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ep waves have great energy, which is released forward as they break against the clif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 pounding can cause great damage to both natural cliffs, and man-made sea def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torm conditions the waves may create up to 30 tonnes per square metre of pres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ub-Aerial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act of rainwater, wind and frost on the clif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water can cause surface ero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st shattering can occur in colder clim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water can also increase the chances of mass movement occur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 (Aeolian) erosion can aid in the erosion of the clif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3:34:14Z</dcterms:created>
  <dc:creator>Dell_02</dc:creator>
  <dc:description/>
  <dc:language>en-US</dc:language>
  <cp:lastModifiedBy>Dell_02</cp:lastModifiedBy>
  <dcterms:modified xsi:type="dcterms:W3CDTF">2011-01-26T23:41:58Z</dcterms:modified>
  <cp:revision>1</cp:revision>
  <dc:subject/>
  <dc:title>Processes Of Coastal Erosion</dc:title>
</cp:coreProperties>
</file>